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4ED6-A7BD-450E-AFE6-95EE8C9B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E2FB-4368-44D0-9A15-BE3BC9CC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352A-192A-4F0E-96F8-CEA60AFF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2894-A0EF-4F89-A6BE-3CFDD799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C92F-EEF1-4479-A554-87C19D9A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41A3-EEF2-483F-82F3-7398B425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23BB-FD05-4677-B598-97F3126D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AFCA-DB08-4ACB-B55A-7034AEA3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6D46-4C8A-459E-AADF-96D4FB3A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E928-647F-46CF-81F3-B1FCCFCD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1A04-FA19-4741-B0A0-A47FBF05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A53B-DDF4-4B2D-9B5C-1C3F02D6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6EBB-6F77-4CF4-8416-08CCCCE3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284A-16A9-4F2D-B0A3-F0675F58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11D5-C9EA-44AA-81B9-D994E81B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70EE-CCDC-406C-BC40-63E506EE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C73F-FB91-484B-994B-44028A37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A044-8F7D-441B-ACF9-2BD70F12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902D-3CBF-44B6-811B-0C388623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E6EF-B713-4582-9FB9-8D88DE2B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2BBE-8DC9-4AF7-8EAF-F44BF979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AAC9-3A3D-4134-B523-822B84B4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9B29-80D7-4990-802E-E840CD55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1FB-6809-4520-8648-F869D0F2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36A5-4CA6-419D-8351-FDCF4569C2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A2E4-A8EF-40AE-91AE-69FFAC232A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slon Open Face"/>
              </a:rPr>
              <a:t>SATIRE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23880" y="50860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lon Open Face"/>
              </a:rPr>
              <a:t>The Combined Cla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lon Open Face"/>
              </a:rPr>
              <a:t>Ms Bac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 Swift Idea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846756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.  Defini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“Satire is the literary art of diminishing a subject by making it ridiculous and evoking toward it attitudes of amusement, contempt, indignation, or scor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and the information that follows is taken from         M. H. Abrams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lossary of Literary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.  The object of satire may be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6104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An individual (known as “personal satire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A type of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A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 an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A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All of humank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-30528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.  The purpose of satire is to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Correct human vice and fo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Ridicule the failing and NOT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Limit ridicule to corrigible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, “correctable”) fa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I.  Classes of sati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mal (direct) satir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s first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ratian Sat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eaker is an urbane, witty, tolerant man who is moved more to wry amusement than indignation at he spectacle of human folly, pretensiousness, and hypocrisy.  Relaxed and informal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uvenalian Sat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eaker is a serious moralist w ho uses a dignified style to decry vice and error and attempts to evoke contempt and moral indig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I.  Classes of sati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irect satir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narrative rather  than a direct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Objects of the satire are characters who make themselves and their opinions ridiculous by what they think, say, and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Its major feature is a series of extended dialogues and debates, often conducted at a banquet or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II.  Augustan Satir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(a period, not a category per se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Satire flourishes in the 18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mous nam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Sw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Vol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Add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P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Fie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 Samuel Joh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V.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Cand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, by Voltai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64800" y="24379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 picaresque nove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entral character is a rogue who embarks on a series of adven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near pl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ries of unrelated or loosely related inc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-15840" y="2057400"/>
            <a:ext cx="395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thumb-2.image.altavista.com/image/322247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slon Open Face"/>
              </a:rPr>
              <a:t>Candide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43434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 Chancery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Zapf Chancery"/>
              </a:rPr>
              <a:t>there once lived a youth endowed by nature with the gentlest of characters.  His soul was revealed in his face.  He combined rather sound judgment with great simplicity of mind; it was for this reason, I believe, that he was given the name of Candide…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965240"/>
            <a:ext cx="4013280" cy="4013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65400" y="6210360"/>
            <a:ext cx="395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thumb-1.image.altavista.com/image/3059007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7T23:44:10Z</dcterms:created>
  <dc:creator>ETIS</dc:creator>
  <dc:description/>
  <dc:language>en-US</dc:language>
  <cp:lastModifiedBy>IIT</cp:lastModifiedBy>
  <dcterms:modified xsi:type="dcterms:W3CDTF">2001-10-04T13:42:06Z</dcterms:modified>
  <cp:revision>12</cp:revision>
  <dc:subject/>
  <dc:title>PowerPoint Presentation  -  SATIRE</dc:title>
</cp:coreProperties>
</file>